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2DE-62DB-46A0-9D30-54AB2AC4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C6E1-79BD-4390-80F5-4EB6FD77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785-9956-4EDD-B5B5-B4A217F8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DBD-D0C0-4CAE-A3AD-479B410F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A14-BC92-4E71-B893-17B17A18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1D3-41E5-48DC-85B7-B994FE5F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5A5-6BB2-46DB-8B50-988F0B90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AC6-A061-4F1C-80BF-F7ED0596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5FA7-F4FF-4B58-B1BB-A1CF92E2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9ED-2195-492C-B84F-140A1268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C072-9F81-4EC5-9E92-65D5EEA7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D28-60BF-4181-BAFD-55BD119D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6F40-290A-4C37-B79F-F1BA1EDFFD59}" type="slidenum">
              <a:rPr b="0" lang="en-US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BenQ Confidential Tuesday, February 07, 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Jerry Milestones</a:t>
            </a:r>
            <a:endParaRPr b="1" lang="en-US" sz="32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3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1/03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5/04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4/07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01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S3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31/08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PS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14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DS: 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8/09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M3/S4: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ffffff"/>
                </a:solidFill>
                <a:latin typeface="Minion"/>
              </a:rPr>
              <a:t>26/10-06</a:t>
            </a: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Minion"/>
            </a:endParaRPr>
          </a:p>
        </p:txBody>
      </p:sp>
      <p:sp>
        <p:nvSpPr>
          <p:cNvPr id="45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6:09:31Z</dcterms:created>
  <dc:creator>BMLaha</dc:creator>
  <dc:description/>
  <dc:language>en-US</dc:language>
  <cp:lastModifiedBy>Lars Bonde</cp:lastModifiedBy>
  <dcterms:modified xsi:type="dcterms:W3CDTF">2006-02-10T09:21:34Z</dcterms:modified>
  <cp:revision>60</cp:revision>
  <dc:subject/>
  <dc:title>Jerry - DL</dc:title>
</cp:coreProperties>
</file>